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8.jpeg" ContentType="image/jpeg"/>
  <Override PartName="/ppt/media/image19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03320" y="694800"/>
            <a:ext cx="484992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6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8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BEA64-9E49-4643-945B-A7D129335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F5A5-D602-4C31-BFA1-EB9C80CC0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DD4B2-8E49-4F93-B42F-2C8766F263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3727-5CBE-4FAC-AC4F-432CE2C281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D91CC-955A-4FDF-A7A2-1AB53599FB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D2684-1CD3-48A8-9C9E-AE1871EBB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A18FB-01C7-4B85-9E4A-F0E3FE9BC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208F-AB09-4EBE-99A3-D0EAF8DAA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8349-49EA-412F-B478-22B65724A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D2D1-DA11-41C8-8E67-851EA66E4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34F2-0085-4F13-AEC2-44F69BF0F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8325-E612-4C03-A05A-F7A1C21E8E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F6CB-4C01-4799-B6BA-1364C7B8C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4985-200A-46F8-96EB-CD26A161C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E28A-DA60-4D90-B8BA-0C839EA632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2360-624B-4485-9E45-B0A9C3D97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1068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A04B-2E22-4D85-88CC-87A8A14E8E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7511-FFA6-403F-8833-6B92ADE4D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11CD-AAC8-4F2E-87B0-867636CFE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FA28-3B47-4190-8C25-E6617B515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352C-F27F-4D42-BDCD-486BE50A9C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451B-CF78-49B4-B715-8EDC95E16C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2BF0-34C1-4F11-87C0-F8FE366D0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28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136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28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136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7871-1591-4570-89E3-0E66622243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807F1-412C-479A-BF6F-6EC06D7C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5DE15-CA66-468A-AF33-A0D608E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A88C9-7230-435C-A4E8-10845183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7FB14-1682-40BD-B35D-A362869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2253-CFAA-445B-B17D-C1727969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B6DE-CDDA-4ED3-96D3-764B9404CA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31068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37425-2280-4220-9663-95D686FC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C4ABB-9315-425D-9FBD-217F6E8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1D38D-0CBB-437C-8E04-7632E72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C5377-9F5A-4C5C-9FA9-52E9662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D547E-C789-4F12-8940-5650297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33AB-DCFB-4C12-8B33-EE9600E3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28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1360" y="801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28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1360" y="3165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F4146-A5D9-4A46-ADFC-F01AD7E0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9C13-522D-4EBC-961E-6B6CD1DFE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E35B-3A0F-4576-A424-6B4AECA83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068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13B-EEB5-40F0-BEDA-CB74E5ED2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61C-D1AA-45E1-B9F1-F8FCA310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165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D131-C3DD-44E8-8A88-11B2C0506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801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6512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2368-BB4D-45EB-8096-A4FCF8A1F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88512E-9C6E-4D08-A068-62DA7F04D7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AutoShape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6880" y="-149400"/>
            <a:ext cx="2976120" cy="2838600"/>
            <a:chOff x="6896880" y="-149400"/>
            <a:chExt cx="2976120" cy="283860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6880" y="-149400"/>
              <a:ext cx="2976120" cy="2838600"/>
              <a:chOff x="6896880" y="-149400"/>
              <a:chExt cx="2976120" cy="283860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6880" y="-149400"/>
                <a:ext cx="2976120" cy="2838600"/>
                <a:chOff x="6896880" y="-149400"/>
                <a:chExt cx="2976120" cy="283860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8160" y="-25920"/>
                  <a:ext cx="348480" cy="22572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225720"/>
                    <a:gd name="textAreaBottom" fmla="*/ 226080 h 225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898400" y="642960"/>
                  <a:ext cx="612360" cy="790560"/>
                </a:xfrm>
                <a:custGeom>
                  <a:avLst/>
                  <a:gdLst>
                    <a:gd name="textAreaLeft" fmla="*/ 0 w 612360"/>
                    <a:gd name="textAreaRight" fmla="*/ 612720 w 612360"/>
                    <a:gd name="textAreaTop" fmla="*/ 0 h 790560"/>
                    <a:gd name="textAreaBottom" fmla="*/ 790920 h 7905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500960" y="412560"/>
                  <a:ext cx="1150200" cy="1620720"/>
                </a:xfrm>
                <a:custGeom>
                  <a:avLst/>
                  <a:gdLst>
                    <a:gd name="textAreaLeft" fmla="*/ 0 w 1150200"/>
                    <a:gd name="textAreaRight" fmla="*/ 1150560 w 1150200"/>
                    <a:gd name="textAreaTop" fmla="*/ 0 h 1620720"/>
                    <a:gd name="textAreaBottom" fmla="*/ 1621080 h 162072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21480" y="57240"/>
                  <a:ext cx="1726920" cy="2425320"/>
                </a:xfrm>
                <a:custGeom>
                  <a:avLst/>
                  <a:gdLst>
                    <a:gd name="textAreaLeft" fmla="*/ 0 w 1726920"/>
                    <a:gd name="textAreaRight" fmla="*/ 1727280 w 1726920"/>
                    <a:gd name="textAreaTop" fmla="*/ 0 h 2425320"/>
                    <a:gd name="textAreaBottom" fmla="*/ 2425680 h 242532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1080" y="1855800"/>
                  <a:ext cx="384840" cy="219960"/>
                </a:xfrm>
                <a:custGeom>
                  <a:avLst/>
                  <a:gdLst>
                    <a:gd name="textAreaLeft" fmla="*/ 0 w 384840"/>
                    <a:gd name="textAreaRight" fmla="*/ 385200 w 38484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88640" y="1653840"/>
                  <a:ext cx="412200" cy="25956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259560"/>
                    <a:gd name="textAreaBottom" fmla="*/ 259920 h 25956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3720" y="297720"/>
                  <a:ext cx="412560" cy="264960"/>
                </a:xfrm>
                <a:custGeom>
                  <a:avLst/>
                  <a:gdLst>
                    <a:gd name="textAreaLeft" fmla="*/ 0 w 412560"/>
                    <a:gd name="textAreaRight" fmla="*/ 412920 w 41256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38920" y="139680"/>
                  <a:ext cx="407520" cy="248760"/>
                </a:xfrm>
                <a:custGeom>
                  <a:avLst/>
                  <a:gdLst>
                    <a:gd name="textAreaLeft" fmla="*/ 0 w 407520"/>
                    <a:gd name="textAreaRight" fmla="*/ 407880 w 40752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89" name="AutoShape 3"/>
            <p:cNvSpPr/>
            <p:nvPr/>
          </p:nvSpPr>
          <p:spPr>
            <a:xfrm>
              <a:off x="281160" y="280800"/>
              <a:ext cx="3571560" cy="16124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263520" y="414000"/>
              <a:ext cx="3562200" cy="15969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752400" y="545760"/>
              <a:ext cx="2362320" cy="14569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6920"/>
                <a:gd name="textAreaBottom" fmla="*/ 1457280 h 1456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93" name="AutoShape 7"/>
              <p:cNvSpPr/>
              <p:nvPr/>
            </p:nvSpPr>
            <p:spPr>
              <a:xfrm>
                <a:off x="3181320" y="1479960"/>
                <a:ext cx="336240" cy="3387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AutoShape 8"/>
              <p:cNvSpPr/>
              <p:nvPr/>
            </p:nvSpPr>
            <p:spPr>
              <a:xfrm>
                <a:off x="195120" y="235080"/>
                <a:ext cx="3786480" cy="1712520"/>
              </a:xfrm>
              <a:custGeom>
                <a:avLst/>
                <a:gdLst>
                  <a:gd name="textAreaLeft" fmla="*/ 0 w 3786480"/>
                  <a:gd name="textAreaRight" fmla="*/ 3786840 w 3786480"/>
                  <a:gd name="textAreaTop" fmla="*/ 0 h 1712520"/>
                  <a:gd name="textAreaBottom" fmla="*/ 1712880 h 1712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AutoShape 9"/>
              <p:cNvSpPr/>
              <p:nvPr/>
            </p:nvSpPr>
            <p:spPr>
              <a:xfrm>
                <a:off x="514080" y="250560"/>
                <a:ext cx="2675520" cy="972360"/>
              </a:xfrm>
              <a:custGeom>
                <a:avLst/>
                <a:gdLst>
                  <a:gd name="textAreaLeft" fmla="*/ 0 w 2675520"/>
                  <a:gd name="textAreaRight" fmla="*/ 2675880 w 267552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AutoShape 10"/>
              <p:cNvSpPr/>
              <p:nvPr/>
            </p:nvSpPr>
            <p:spPr>
              <a:xfrm>
                <a:off x="649080" y="398160"/>
                <a:ext cx="360000" cy="64944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>
                <a:off x="1342440" y="849600"/>
                <a:ext cx="1096200" cy="576360"/>
              </a:xfrm>
              <a:custGeom>
                <a:avLst/>
                <a:gdLst>
                  <a:gd name="textAreaLeft" fmla="*/ 0 w 1096200"/>
                  <a:gd name="textAreaRight" fmla="*/ 1096560 w 10962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2"/>
          <p:cNvGrpSpPr/>
          <p:nvPr/>
        </p:nvGrpSpPr>
        <p:grpSpPr>
          <a:xfrm>
            <a:off x="7705800" y="4233240"/>
            <a:ext cx="1164960" cy="1326240"/>
            <a:chOff x="7705800" y="4233240"/>
            <a:chExt cx="1164960" cy="1326240"/>
          </a:xfrm>
        </p:grpSpPr>
        <p:sp>
          <p:nvSpPr>
            <p:cNvPr id="99" name="AutoShape 13"/>
            <p:cNvSpPr/>
            <p:nvPr/>
          </p:nvSpPr>
          <p:spPr>
            <a:xfrm rot="7320000">
              <a:off x="7794360" y="4659120"/>
              <a:ext cx="998280" cy="46512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rot="7320000">
              <a:off x="7769160" y="463788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7320000">
              <a:off x="7938000" y="4625280"/>
              <a:ext cx="660240" cy="4204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16"/>
            <p:cNvGrpSpPr/>
            <p:nvPr/>
          </p:nvGrpSpPr>
          <p:grpSpPr>
            <a:xfrm>
              <a:off x="7705800" y="4233240"/>
              <a:ext cx="1164960" cy="1326240"/>
              <a:chOff x="7705800" y="4233240"/>
              <a:chExt cx="1164960" cy="1326240"/>
            </a:xfrm>
          </p:grpSpPr>
          <p:sp>
            <p:nvSpPr>
              <p:cNvPr id="103" name="AutoShape 17"/>
              <p:cNvSpPr/>
              <p:nvPr/>
            </p:nvSpPr>
            <p:spPr>
              <a:xfrm rot="7320000">
                <a:off x="7810200" y="5068080"/>
                <a:ext cx="102240" cy="1274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7440"/>
                  <a:gd name="textAreaBottom" fmla="*/ 127440 h 1274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AutoShape 18"/>
              <p:cNvSpPr/>
              <p:nvPr/>
            </p:nvSpPr>
            <p:spPr>
              <a:xfrm rot="7320000">
                <a:off x="7709400" y="4570560"/>
                <a:ext cx="1157040" cy="6508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 rot="7320000">
                <a:off x="8038800" y="4709160"/>
                <a:ext cx="818640" cy="36828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rot="7320000">
                <a:off x="8596440" y="4508640"/>
                <a:ext cx="109080" cy="246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 rot="7320000">
                <a:off x="8145000" y="4726080"/>
                <a:ext cx="334800" cy="2178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AutoShape 22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716C61-CAD3-4A74-A5DC-D4849E0D8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FA564D-14D8-4BE7-8C06-DB41B377F5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81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онстантин Георгиевич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Пауст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2602080" cy="349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Picture 10" descr="F:\Паустовский портрет.jpg"/>
          <p:cNvPicPr/>
          <p:nvPr/>
        </p:nvPicPr>
        <p:blipFill>
          <a:blip r:embed="rId2"/>
          <a:stretch/>
        </p:blipFill>
        <p:spPr>
          <a:xfrm>
            <a:off x="755640" y="1484280"/>
            <a:ext cx="7704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73280" y="260280"/>
            <a:ext cx="83707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Любимые места К.Г.Паустовск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11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8017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Ока"/>
          <p:cNvPicPr/>
          <p:nvPr/>
        </p:nvPicPr>
        <p:blipFill>
          <a:blip r:embed="rId1"/>
          <a:stretch/>
        </p:blipFill>
        <p:spPr>
          <a:xfrm>
            <a:off x="324000" y="1700280"/>
            <a:ext cx="83102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mrm0010"/>
          <p:cNvPicPr/>
          <p:nvPr/>
        </p:nvPicPr>
        <p:blipFill>
          <a:blip r:embed="rId1"/>
          <a:stretch/>
        </p:blipFill>
        <p:spPr>
          <a:xfrm>
            <a:off x="539640" y="549360"/>
            <a:ext cx="81946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tarusa_1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polesie_1_2_version"/>
          <p:cNvPicPr/>
          <p:nvPr/>
        </p:nvPicPr>
        <p:blipFill>
          <a:blip r:embed="rId1"/>
          <a:stretch/>
        </p:blipFill>
        <p:spPr>
          <a:xfrm>
            <a:off x="2411280" y="260280"/>
            <a:ext cx="44229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88963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1-web"/>
          <p:cNvPicPr/>
          <p:nvPr/>
        </p:nvPicPr>
        <p:blipFill>
          <a:blip r:embed="rId1"/>
          <a:stretch/>
        </p:blipFill>
        <p:spPr>
          <a:xfrm>
            <a:off x="684360" y="404640"/>
            <a:ext cx="789624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ad_paust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3568320" y="5950080"/>
            <a:ext cx="16056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Тарус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208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У Паустовского справа от двери стоя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  <a:ea typeface="Tahoma"/>
              </a:rPr>
              <a:t>ли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 стеллажи с книг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Книги у него были без пометок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1" i="1" lang="ru-RU" sz="3200" spc="-1" strike="noStrike">
                <a:solidFill>
                  <a:srgbClr val="003366"/>
                </a:solidFill>
                <a:latin typeface="Tahoma"/>
                <a:ea typeface="Tahoma"/>
              </a:rPr>
              <a:t>К. Г. Паустовский не любил подчеркивать на полях. На столе лежали: справочник, книги, стояла статуэтка египетской царицы Неферти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kniga1"/>
          <p:cNvPicPr/>
          <p:nvPr/>
        </p:nvPicPr>
        <p:blipFill>
          <a:blip r:embed="rId1"/>
          <a:stretch/>
        </p:blipFill>
        <p:spPr>
          <a:xfrm>
            <a:off x="6516720" y="494172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685800" y="-441360"/>
            <a:ext cx="6694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95280" y="1628640"/>
            <a:ext cx="6192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5" descr="648249093"/>
          <p:cNvPicPr/>
          <p:nvPr/>
        </p:nvPicPr>
        <p:blipFill>
          <a:blip r:embed="rId1"/>
          <a:stretch/>
        </p:blipFill>
        <p:spPr>
          <a:xfrm>
            <a:off x="611280" y="1052640"/>
            <a:ext cx="3181320" cy="47624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211640" y="549360"/>
            <a:ext cx="446400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онстантин Георгиевич Паустовский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родился 31 мая 1892 года в Гранатном переулке в Москв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 семье любили искусство: много пели, играли на рояле, часто посещали теат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ha0022"/>
          <p:cNvPicPr/>
          <p:nvPr/>
        </p:nvPicPr>
        <p:blipFill>
          <a:blip r:embed="rId1"/>
          <a:stretch/>
        </p:blipFill>
        <p:spPr>
          <a:xfrm>
            <a:off x="611280" y="620640"/>
            <a:ext cx="7288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П"/>
          <p:cNvPicPr/>
          <p:nvPr/>
        </p:nvPicPr>
        <p:blipFill>
          <a:blip r:embed="rId1"/>
          <a:stretch/>
        </p:blipFill>
        <p:spPr>
          <a:xfrm>
            <a:off x="324000" y="549360"/>
            <a:ext cx="842148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Bitstream Vera Sans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428760" y="1857240"/>
            <a:ext cx="813420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paustovskiy.niv.ru/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www.c-cafe.ru/days/bio/2/015.ph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www.hrono.ru/biograf/paustov.htm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http://ru.wikipedia.org/wiki/Паустов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20-2"/>
          <p:cNvPicPr/>
          <p:nvPr/>
        </p:nvPicPr>
        <p:blipFill>
          <a:blip r:embed="rId1"/>
          <a:stretch/>
        </p:blipFill>
        <p:spPr>
          <a:xfrm>
            <a:off x="826920" y="620640"/>
            <a:ext cx="3775320" cy="5451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gimnazist"/>
          <p:cNvPicPr/>
          <p:nvPr/>
        </p:nvPicPr>
        <p:blipFill>
          <a:blip r:embed="rId2"/>
          <a:stretch/>
        </p:blipFill>
        <p:spPr>
          <a:xfrm>
            <a:off x="4788000" y="549360"/>
            <a:ext cx="3591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685800" y="-225360"/>
            <a:ext cx="662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627280" y="2133720"/>
            <a:ext cx="63374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716000" y="801720"/>
            <a:ext cx="44276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чился Константин Паустовский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иевской классической  гимназии, у него 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хорошие учителя, знавшие и любивш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усскую словесность, историю и психолог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устовский много читал, увлекался сочинением стих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371840" cy="4602240"/>
          </a:xfrm>
          <a:prstGeom prst="rect">
            <a:avLst/>
          </a:prstGeom>
          <a:ln w="25560">
            <a:solidFill>
              <a:srgbClr val="003366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685800" y="-81000"/>
            <a:ext cx="662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0" y="1170000"/>
            <a:ext cx="5977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027240" cy="4251240"/>
          </a:xfrm>
          <a:prstGeom prst="rect">
            <a:avLst/>
          </a:prstGeom>
          <a:ln w="25560">
            <a:solidFill>
              <a:srgbClr val="800000"/>
            </a:solidFill>
            <a:round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597528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1912 году окончил гимназию и поступил в Киевский университет на естественное отделение физико-математического факульт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1914 году Паустовский перевелся в Московский университет на философское отделение историко-филологического факульте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переехал жить в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Началась первая мировая война, осенью 1914 года в Москве начали формировать несколько тыловых санитарных поезд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онстантин Паустовский стал работать санитаром на од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 таких поездов, развозя раненых из Москвы по глубоким тыловым городам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огда, по признанию Паустовског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н навсегда полюбил среднюю полосу России с ее городами и деревн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755640" y="27000"/>
            <a:ext cx="6694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611280" y="447840"/>
            <a:ext cx="565128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ботал в Москве, в Киеве, Одессе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ервой серьёзной его книгой был сборник рассказов "Встречные корабли", вышедший в 1928 году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2628720" cy="4162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paustovsky1"/>
          <p:cNvPicPr/>
          <p:nvPr/>
        </p:nvPicPr>
        <p:blipFill>
          <a:blip r:embed="rId2"/>
          <a:stretch/>
        </p:blipFill>
        <p:spPr>
          <a:xfrm>
            <a:off x="3132000" y="3141720"/>
            <a:ext cx="285768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iterate type="lt">
                                    <p:tmAbs val="129.79998762130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1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Много ездил, жил на Кольском полуострове и на Украине, побывал на Волге, Каме, Дону, Днепре и других великих реках, в Средней Азии, в Крыму, на Алтае, в Пскове, Новгороде, в Белоруссии и других местах. Особое место в его творчестве занимает Мещерский край, где Паустовский подолгу жи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_kale13-may07_2"/>
          <p:cNvPicPr/>
          <p:nvPr/>
        </p:nvPicPr>
        <p:blipFill>
          <a:blip r:embed="rId1"/>
          <a:stretch/>
        </p:blipFill>
        <p:spPr>
          <a:xfrm>
            <a:off x="4067280" y="3645000"/>
            <a:ext cx="15904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685800" y="-225360"/>
            <a:ext cx="6765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24000" y="0"/>
            <a:ext cx="53262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5035680" cy="3887640"/>
          </a:xfrm>
          <a:prstGeom prst="rect">
            <a:avLst/>
          </a:prstGeom>
          <a:ln w="25560">
            <a:solidFill>
              <a:srgbClr val="800000"/>
            </a:solidFill>
            <a:round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87280" y="8366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 годы Великой Отечественной войны  Паустовский работал военным  корреспондентом и писал расска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000442757"/>
          <p:cNvPicPr/>
          <p:nvPr/>
        </p:nvPicPr>
        <p:blipFill>
          <a:blip r:embed="rId1"/>
          <a:stretch/>
        </p:blipFill>
        <p:spPr>
          <a:xfrm>
            <a:off x="1187280" y="333360"/>
            <a:ext cx="2181240" cy="3541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1251889975"/>
          <p:cNvPicPr/>
          <p:nvPr/>
        </p:nvPicPr>
        <p:blipFill>
          <a:blip r:embed="rId2"/>
          <a:stretch/>
        </p:blipFill>
        <p:spPr>
          <a:xfrm>
            <a:off x="3203640" y="260280"/>
            <a:ext cx="1968480" cy="3084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b154787"/>
          <p:cNvPicPr/>
          <p:nvPr/>
        </p:nvPicPr>
        <p:blipFill>
          <a:blip r:embed="rId3"/>
          <a:stretch/>
        </p:blipFill>
        <p:spPr>
          <a:xfrm>
            <a:off x="5292720" y="189000"/>
            <a:ext cx="2054160" cy="33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17541"/>
          <p:cNvPicPr/>
          <p:nvPr/>
        </p:nvPicPr>
        <p:blipFill>
          <a:blip r:embed="rId4"/>
          <a:stretch/>
        </p:blipFill>
        <p:spPr>
          <a:xfrm>
            <a:off x="1619280" y="3478320"/>
            <a:ext cx="2138400" cy="3379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1795680" cy="287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6"/>
          <a:stretch/>
        </p:blipFill>
        <p:spPr>
          <a:xfrm>
            <a:off x="5219640" y="3500280"/>
            <a:ext cx="2051280" cy="2821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7"/>
          <a:stretch/>
        </p:blipFill>
        <p:spPr>
          <a:xfrm>
            <a:off x="6804000" y="3573360"/>
            <a:ext cx="2054160" cy="29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8"/>
          <a:stretch/>
        </p:blipFill>
        <p:spPr>
          <a:xfrm>
            <a:off x="6804000" y="189000"/>
            <a:ext cx="2116080" cy="3271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Gubin"/>
          <p:cNvPicPr/>
          <p:nvPr/>
        </p:nvPicPr>
        <p:blipFill>
          <a:blip r:embed="rId9"/>
          <a:srcRect l="0" t="13531" r="0" b="0"/>
          <a:stretch/>
        </p:blipFill>
        <p:spPr>
          <a:xfrm>
            <a:off x="0" y="1052640"/>
            <a:ext cx="32097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09:34Z</dcterms:created>
  <dc:creator>www.PHILka.RU</dc:creator>
  <dc:description/>
  <dc:language>en-US</dc:language>
  <cp:lastModifiedBy>ё</cp:lastModifiedBy>
  <dcterms:modified xsi:type="dcterms:W3CDTF">2017-10-17T16:34:26Z</dcterms:modified>
  <cp:revision>77</cp:revision>
  <dc:subject/>
  <dc:title>Константин Георгиевич Паустовский</dc:title>
</cp:coreProperties>
</file>